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809-7339-4689-A507-1726EBFB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68D-53C2-4D76-815F-2A5BF5B5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7A9-F8A6-47E0-85C5-91354387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F20-DA62-475A-B45C-AC914E85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FD2-DBB8-4EEF-BF4D-E8453414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DD8-236D-479D-A8EB-25FD967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E41-6379-41D5-8D72-3A4129EA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CF8-E12F-4711-9BEB-9308C32D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302-58D6-49A4-B8D2-AC111751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00E-56CD-47AB-ACDB-0C6E6AEF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DEB-FB73-459D-91BF-3A0EC52E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1CE-A3B5-482E-BAD6-F0A84720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A3E3-E52F-4BE4-830A-7D2EBE81D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he Lord be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also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ift up your hea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lift them to the L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give than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to the Lord our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t is right to g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thanks and prai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05:04Z</dcterms:created>
  <dc:creator>Anon Anon</dc:creator>
  <dc:description/>
  <dc:language>en-US</dc:language>
  <cp:lastModifiedBy>Anon Anon</cp:lastModifiedBy>
  <dcterms:modified xsi:type="dcterms:W3CDTF">2005-08-09T05:22:47Z</dcterms:modified>
  <cp:revision>12</cp:revision>
  <dc:subject/>
  <dc:title>PowerPoint Presentation</dc:title>
</cp:coreProperties>
</file>